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AE2-9E87-41F6-9F6C-F84EADDF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87A-33F1-4CB1-8DEB-F5989220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B0F-1BEB-4F96-99D7-8C75A6D1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68F-24E4-477F-A2C9-4B33488F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D38A-6F88-4F19-A1BE-37B9F92A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869-5B22-43AC-B0D9-9576AB99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571-523E-42B7-81B1-11DA1C2B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3097-6C76-4517-9FEA-979022B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0D4-A1E4-4021-873D-150ED7D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0F3-3E64-445A-9E4C-85FD612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6A1E-3A7E-401F-9F79-F157DB38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7A4-53B4-447B-A301-0F48482C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A15-D17F-43E4-ADC1-289B506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5C5-5CB3-47C0-8EBF-E9DCCD0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3B8-D94D-4909-98C9-6D4DF87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B4E5-457A-4BC7-9BE1-CA8F3D2C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4B8-3ACC-4ACB-8131-3DF67C4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A12-C52C-4A83-8438-F51F0F0A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98A-53F0-4257-AD9E-2D057EC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1E2-085F-4A77-869D-203442F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EF7-DF69-4954-A6E0-D497BC1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338-4BFD-4C46-86AE-5A18464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39E-7B31-4D30-9C3D-0B8EE68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A1C-1B05-48F8-BE20-FC0B66B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9AFF-1658-48C8-B107-41628C1E90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623-099C-4B58-8A63-17F52DD1FE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hyperlink" Target="http://www.50states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index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80810.html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postcardsfrom.com/t1/980810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380880"/>
            <a:ext cx="79246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uth 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kota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4" name=""/>
          <p:cNvSpPr/>
          <p:nvPr/>
        </p:nvSpPr>
        <p:spPr>
          <a:xfrm>
            <a:off x="5791320" y="4952880"/>
            <a:ext cx="3352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1600200" y="4629240"/>
            <a:ext cx="2282760" cy="22287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886200" y="5867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543800" y="762120"/>
            <a:ext cx="16002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te Son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 10/7/10, </a:t>
            </a:r>
            <a:r>
              <a:rPr b="0" lang="en-US" sz="12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www.50state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Name: South Dak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apital: Pi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 754, 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he Union: 4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ovember 2, 18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: Under God the People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Mount Rushmore State, Coyote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PasqueFl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: Ring-Necked Pheas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: Hail! South Dak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ing Behind Name: Alliance of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1711080" cy="18795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96080" y="43434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589880" y="0"/>
            <a:ext cx="1554120" cy="1676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772400" y="19051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914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Ring-Necked Pheasant is fascinating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5410080"/>
            <a:ext cx="312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PasqueFlower is beautiful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c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took 14 years to build the 6,200 foot tall Mount Rushmo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m: Fairburn Agate, a very unusual stone. Made into pendants, necklaces, and earr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neral: Rose Quartz, a pink, inexpensive stone that goes with anyth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uth Dakota is 77,121 square miles bi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227920" y="56386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South Dakota: Map and State Flag"/>
          <p:cNvPicPr/>
          <p:nvPr/>
        </p:nvPicPr>
        <p:blipFill>
          <a:blip r:embed="rId1"/>
          <a:srcRect l="7900" t="0" r="9178" b="60617"/>
          <a:stretch/>
        </p:blipFill>
        <p:spPr>
          <a:xfrm>
            <a:off x="914400" y="609480"/>
            <a:ext cx="3733920" cy="23115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South Dakota: Map and State Flag"/>
          <p:cNvPicPr/>
          <p:nvPr/>
        </p:nvPicPr>
        <p:blipFill>
          <a:blip r:embed="rId2"/>
          <a:srcRect l="0" t="50009" r="0" b="0"/>
          <a:stretch/>
        </p:blipFill>
        <p:spPr>
          <a:xfrm>
            <a:off x="4952880" y="3886200"/>
            <a:ext cx="3962520" cy="2583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8600" y="48006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: South Dako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2 September 2010,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Arial"/>
                <a:hlinkClick r:id="rId3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All images Copyright © 1997 - 2000 WriteLine. All Rights Reserved. Bison home on the range"/>
          <p:cNvPicPr/>
          <p:nvPr/>
        </p:nvPicPr>
        <p:blipFill>
          <a:blip r:embed="rId1"/>
          <a:stretch/>
        </p:blipFill>
        <p:spPr>
          <a:xfrm>
            <a:off x="0" y="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429000"/>
            <a:ext cx="5638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Black Hills, 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9/23/10,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Arial"/>
                <a:hlinkClick r:id="rId2"/>
              </a:rPr>
              <a:t>http://www.postcardsfrom.com/t1/98081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Copyright © 1998 WriteLine. All Rights Reserved. Spruce tree stamp"/>
          <p:cNvPicPr/>
          <p:nvPr/>
        </p:nvPicPr>
        <p:blipFill>
          <a:blip r:embed="rId3"/>
          <a:stretch/>
        </p:blipFill>
        <p:spPr>
          <a:xfrm>
            <a:off x="5867280" y="3124080"/>
            <a:ext cx="2616480" cy="3581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105520" y="205740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uth Dakota State Stamp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9/23/10,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Arial"/>
                <a:hlinkClick r:id="rId4"/>
              </a:rPr>
              <a:t>http://www.postcardsfrom.com/t1/980810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uster State Park is a natural beau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5715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lack Hills Spruce Tree is a magnificent evergreen t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1Z</dcterms:created>
  <dc:creator>install</dc:creator>
  <dc:description/>
  <dc:language>en-US</dc:language>
  <cp:lastModifiedBy>install</cp:lastModifiedBy>
  <dcterms:modified xsi:type="dcterms:W3CDTF">2010-10-14T13:19:45Z</dcterms:modified>
  <cp:revision>34</cp:revision>
  <dc:subject/>
  <dc:title>Slide 1</dc:title>
</cp:coreProperties>
</file>